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gif" ContentType="image/gif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3739-9B22-4C42-B7F3-8B7C9B1E7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C596-B48E-45AE-BA6C-DFFAF35B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BF27-C959-4F06-A8BB-66064131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F979-3F60-40D0-BBB5-1324B5866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9C3A-F837-47D6-A0DA-90D157DB6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C518-32D5-4169-B47F-7BEEFA89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5A0E-0D25-4118-B128-B3A56CA8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FEA4-6250-43AE-A2CC-051130AE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7FB6-A24B-4017-92F8-2D72B630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4C0A-8BAA-480A-8F6D-5ADB2007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48EF-0C05-4951-A1F7-2A37CAC5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834E-2E06-4149-B2E2-59311B60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3344-3DC5-4014-BEB7-E661AD72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619E-47CC-4C5C-B83B-CEC37D7D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4ACB-263C-42D6-8C8B-FB3E2FB6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9D58-B2AE-42E9-A843-6103CD83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3DDE-DF98-41F4-B717-42BF41CF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120E-200B-45E9-B351-04B1D3F2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A660-05AC-4ACE-B661-0305C53F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3424-5890-4F43-AADF-65881230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DC92-E130-4B79-94DA-8D7F2F54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3E7A-B660-45DE-B1BE-30320642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7947-BDFF-484B-9124-026D6852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792D-1EAD-4BAD-B323-D18CEEBE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1D79-53FA-4A3D-BC39-6A32C8E7CB7A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002b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002b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002b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002b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002b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002b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002b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pic>
        <p:nvPicPr>
          <p:cNvPr id="5" name="gif21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cc"/>
                </a:solidFill>
                <a:latin typeface="隶书"/>
                <a:ea typeface="隶书"/>
              </a:rPr>
              <a:t>SQL Server 2000</a:t>
            </a:r>
            <a:r>
              <a:rPr b="1" lang="zh-CN" sz="1800" spc="-1" strike="noStrike">
                <a:solidFill>
                  <a:srgbClr val="ffffcc"/>
                </a:solidFill>
                <a:latin typeface="隶书"/>
                <a:ea typeface="隶书"/>
              </a:rPr>
              <a:t>数据库简明教程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" name="gif318" descr=""/>
          <p:cNvPicPr/>
          <p:nvPr/>
        </p:nvPicPr>
        <p:blipFill>
          <a:blip r:embed="rId3"/>
          <a:stretch/>
        </p:blipFill>
        <p:spPr>
          <a:xfrm>
            <a:off x="0" y="6058080"/>
            <a:ext cx="9144000" cy="7999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5699160" y="-38160"/>
            <a:ext cx="344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cc"/>
                </a:solidFill>
                <a:latin typeface="隶书"/>
                <a:ea typeface="隶书"/>
              </a:rPr>
              <a:t>主编：李存斌 （教授）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46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52DA-2F91-4913-A1CB-405C0F0D6AE1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&#20070;&#21517;&#12289;&#20869;&#23481;&#31616;&#20171;&#21644;&#21069;&#35328;.ppt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31532;8&#31456;%20%20%20%20SQL%20Server&#25968;&#25454;&#22797;&#21046;.ppt#2. 8.1   &#22797;&#21046;&#27010;&#36848;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31532;1&#31456;%20%20%20SQL%20Server%20&#20851;&#31995;&#25968;&#25454;&#24211;&#31616;&#20171;.ppt#3. 1.1   SQL Server &#29305;&#28857;" TargetMode="External"/><Relationship Id="rId2" Type="http://schemas.openxmlformats.org/officeDocument/2006/relationships/hyperlink" Target="file:///&#31532;1&#31456;%20%20%20SQL%20Server%20&#20851;&#31995;&#25968;&#25454;&#24211;&#31616;&#20171;.ppt#3. 1.1   SQL Server &#29305;&#28857;" TargetMode="External"/><Relationship Id="rId3" Type="http://schemas.openxmlformats.org/officeDocument/2006/relationships/hyperlink" Target="file:///&#31532;1&#31456;%20%20%20SQL%20Server%20&#20851;&#31995;&#25968;&#25454;&#24211;&#31616;&#20171;.ppt#3. 1.1   SQL Server &#29305;&#28857;" TargetMode="External"/><Relationship Id="rId4" Type="http://schemas.openxmlformats.org/officeDocument/2006/relationships/hyperlink" Target="file:///&#31532;1&#31456;%20%20%20SQL%20Server%20&#20851;&#31995;&#25968;&#25454;&#24211;&#31616;&#20171;.ppt#6. 1.2   SQL Server&#30340;&#23433;&#35013;&#21644;&#37197;&#32622;" TargetMode="External"/><Relationship Id="rId5" Type="http://schemas.openxmlformats.org/officeDocument/2006/relationships/hyperlink" Target="file:///&#31532;1&#31456;%20%20%20SQL%20Server%20&#20851;&#31995;&#25968;&#25454;&#24211;&#31616;&#20171;.ppt#6. 1.2   SQL Server&#30340;&#23433;&#35013;&#21644;&#37197;&#32622;" TargetMode="External"/><Relationship Id="rId6" Type="http://schemas.openxmlformats.org/officeDocument/2006/relationships/hyperlink" Target="file:///&#31532;1&#31456;%20%20%20SQL%20Server%20&#20851;&#31995;&#25968;&#25454;&#24211;&#31616;&#20171;.ppt#6. 1.2   SQL Server&#30340;&#23433;&#35013;&#21644;&#37197;&#32622;" TargetMode="External"/><Relationship Id="rId7" Type="http://schemas.openxmlformats.org/officeDocument/2006/relationships/hyperlink" Target="file:///&#31532;1&#31456;%20%20%20SQL%20Server%20&#20851;&#31995;&#25968;&#25454;&#24211;&#31616;&#20171;.ppt#18. 1.3   SQL Server &#24037;&#20855;&#21644;&#23454;&#29992;&#31243;&#24207;" TargetMode="External"/><Relationship Id="rId8" Type="http://schemas.openxmlformats.org/officeDocument/2006/relationships/hyperlink" Target="file:///&#31532;1&#31456;%20%20%20SQL%20Server%20&#20851;&#31995;&#25968;&#25454;&#24211;&#31616;&#20171;.ppt#18. 1.3   SQL Server &#24037;&#20855;&#21644;&#23454;&#29992;&#31243;&#24207;" TargetMode="External"/><Relationship Id="rId9" Type="http://schemas.openxmlformats.org/officeDocument/2006/relationships/hyperlink" Target="file:///&#31532;1&#31456;%20%20%20SQL%20Server%20&#20851;&#31995;&#25968;&#25454;&#24211;&#31616;&#20171;.ppt#18. 1.3   SQL Server &#24037;&#20855;&#21644;&#23454;&#29992;&#31243;&#24207;" TargetMode="External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31532;2&#31456;%20%20%20Transact-SQL&#35821;&#35328;.ppt#3. 2.1  &#25968;&#25454;&#23450;&#20041;&#35821;&#35328;&#65288;DDL&#65289;" TargetMode="External"/><Relationship Id="rId2" Type="http://schemas.openxmlformats.org/officeDocument/2006/relationships/hyperlink" Target="file:///&#31532;2&#31456;%20%20%20Transact-SQL&#35821;&#35328;.ppt#3. 2.1  &#25968;&#25454;&#23450;&#20041;&#35821;&#35328;&#65288;DDL&#65289;" TargetMode="External"/><Relationship Id="rId3" Type="http://schemas.openxmlformats.org/officeDocument/2006/relationships/hyperlink" Target="file:///&#31532;2&#31456;%20%20%20Transact-SQL&#35821;&#35328;.ppt#7. 2.2  &#25968;&#25454;&#25805;&#32437;&#35821;&#35328;&#65288;DML&#65289;" TargetMode="External"/><Relationship Id="rId4" Type="http://schemas.openxmlformats.org/officeDocument/2006/relationships/hyperlink" Target="file:///&#31532;2&#31456;%20%20%20Transact-SQL&#35821;&#35328;.ppt#7. 2.2  &#25968;&#25454;&#25805;&#32437;&#35821;&#35328;&#65288;DML&#65289;" TargetMode="External"/><Relationship Id="rId5" Type="http://schemas.openxmlformats.org/officeDocument/2006/relationships/hyperlink" Target="file:///&#31532;2&#31456;%20%20%20Transact-SQL&#35821;&#35328;.ppt#7. 2.2  &#25968;&#25454;&#25805;&#32437;&#35821;&#35328;&#65288;DML&#65289;" TargetMode="External"/><Relationship Id="rId6" Type="http://schemas.openxmlformats.org/officeDocument/2006/relationships/hyperlink" Target="file:///&#31532;2&#31456;%20%20%20Transact-SQL&#35821;&#35328;.ppt#20. 2.3  &#25968;&#25454;&#25511;&#21046;&#35821;&#35328;&#65288;DCL&#65289;" TargetMode="External"/><Relationship Id="rId7" Type="http://schemas.openxmlformats.org/officeDocument/2006/relationships/hyperlink" Target="file:///&#31532;2&#31456;%20%20%20Transact-SQL&#35821;&#35328;.ppt#20. 2.3  &#25968;&#25454;&#25511;&#21046;&#35821;&#35328;&#65288;DCL&#65289;" TargetMode="External"/><Relationship Id="rId8" Type="http://schemas.openxmlformats.org/officeDocument/2006/relationships/hyperlink" Target="file:///&#31532;2&#31456;%20%20%20Transact-SQL&#35821;&#35328;.ppt#20. 2.3  &#25968;&#25454;&#25511;&#21046;&#35821;&#35328;&#65288;DCL&#65289;" TargetMode="External"/><Relationship Id="rId9" Type="http://schemas.openxmlformats.org/officeDocument/2006/relationships/hyperlink" Target="file:///&#31532;2&#31456;%20%20%20Transact-SQL&#35821;&#35328;.ppt#27. 2.4  &#31995;&#32479;&#23384;&#20648;&#36807;&#31243;" TargetMode="External"/><Relationship Id="rId10" Type="http://schemas.openxmlformats.org/officeDocument/2006/relationships/hyperlink" Target="file:///&#31532;2&#31456;%20%20%20Transact-SQL&#35821;&#35328;.ppt#27. 2.4  &#31995;&#32479;&#23384;&#20648;&#36807;&#31243;" TargetMode="External"/><Relationship Id="rId11" Type="http://schemas.openxmlformats.org/officeDocument/2006/relationships/hyperlink" Target="file:///&#31532;2&#31456;%20%20%20Transact-SQL&#35821;&#35328;.ppt#30. 2.5  &#20854;&#23427;&#35821;&#35328;&#20803;&#32032;" TargetMode="External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31532;3&#31456;%20%20%20&#26381;&#21153;&#22120;&#31649;&#29702;.ppt#2. 3.1   &#21019;&#24314;&#26381;&#21153;&#22120;&#32452;" TargetMode="External"/><Relationship Id="rId2" Type="http://schemas.openxmlformats.org/officeDocument/2006/relationships/hyperlink" Target="file:///&#31532;3&#31456;%20%20%20&#26381;&#21153;&#22120;&#31649;&#29702;.ppt#2. 3.1   &#21019;&#24314;&#26381;&#21153;&#22120;&#32452;" TargetMode="External"/><Relationship Id="rId3" Type="http://schemas.openxmlformats.org/officeDocument/2006/relationships/hyperlink" Target="file:///&#31532;3&#31456;%20%20%20&#26381;&#21153;&#22120;&#31649;&#29702;.ppt#5. 3.2   &#26381;&#21153;&#22120;&#27880;&#20876;" TargetMode="External"/><Relationship Id="rId4" Type="http://schemas.openxmlformats.org/officeDocument/2006/relationships/hyperlink" Target="file:///&#31532;3&#31456;%20%20%20&#26381;&#21153;&#22120;&#31649;&#29702;.ppt#17. 3.3   &#26381;&#21153;&#22120;&#21551;&#21160;&#12289;&#26242;&#20572;&#21644;&#20572;&#27490;" TargetMode="External"/><Relationship Id="rId5" Type="http://schemas.openxmlformats.org/officeDocument/2006/relationships/hyperlink" Target="file:///&#31532;3&#31456;%20%20%20&#26381;&#21153;&#22120;&#31649;&#29702;.ppt#17. 3.3   &#26381;&#21153;&#22120;&#21551;&#21160;&#12289;&#26242;&#20572;&#21644;&#20572;&#27490;" TargetMode="External"/><Relationship Id="rId6" Type="http://schemas.openxmlformats.org/officeDocument/2006/relationships/hyperlink" Target="file:///&#31532;3&#31456;%20%20%20&#26381;&#21153;&#22120;&#31649;&#29702;.ppt#19. 3.4   &#26381;&#21153;&#22120;&#36830;&#25509;&#19982;&#26029;&#24320;" TargetMode="External"/><Relationship Id="rId7" Type="http://schemas.openxmlformats.org/officeDocument/2006/relationships/hyperlink" Target="file:///&#31532;3&#31456;%20%20%20&#26381;&#21153;&#22120;&#31649;&#29702;.ppt#19. 3.4   &#26381;&#21153;&#22120;&#36830;&#25509;&#19982;&#26029;&#24320;" TargetMode="External"/><Relationship Id="rId8" Type="http://schemas.openxmlformats.org/officeDocument/2006/relationships/hyperlink" Target="file:///&#31532;3&#31456;%20%20%20&#26381;&#21153;&#22120;&#31649;&#29702;.ppt#21. 3.5   &#26381;&#21153;&#22120;&#37197;&#32622;&#36873;&#39033;&#35774;&#32622;" TargetMode="External"/><Relationship Id="rId9" Type="http://schemas.openxmlformats.org/officeDocument/2006/relationships/hyperlink" Target="file:///&#31532;3&#31456;%20%20%20&#26381;&#21153;&#22120;&#31649;&#29702;.ppt#21. 3.5   &#26381;&#21153;&#22120;&#37197;&#32622;&#36873;&#39033;&#35774;&#32622;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31532;4&#31456;%20%20%20&#25968;&#25454;&#24211;&#31649;&#29702;.ppt#2. 4.1   &#25968;&#25454;&#24211;&#30340;&#23384;&#20648;&#32467;&#26500;" TargetMode="External"/><Relationship Id="rId2" Type="http://schemas.openxmlformats.org/officeDocument/2006/relationships/hyperlink" Target="file:///&#31532;4&#31456;%20%20%20&#25968;&#25454;&#24211;&#31649;&#29702;.ppt#6. 4.2   &#21019;&#24314;&#12289;&#20462;&#25913;&#21644;&#21024;&#38500;&#25968;&#25454;&#24211;" TargetMode="External"/><Relationship Id="rId3" Type="http://schemas.openxmlformats.org/officeDocument/2006/relationships/hyperlink" Target="file:///&#31532;4&#31456;%20%20%20&#25968;&#25454;&#24211;&#31649;&#29702;.ppt#6. 4.2   &#21019;&#24314;&#12289;&#20462;&#25913;&#21644;&#21024;&#38500;&#25968;&#25454;&#24211;" TargetMode="External"/><Relationship Id="rId4" Type="http://schemas.openxmlformats.org/officeDocument/2006/relationships/hyperlink" Target="file:///&#31532;4&#31456;%20%20%20&#25968;&#25454;&#24211;&#31649;&#29702;.ppt#34. 4.3   &#25968;&#25454;&#24211;&#22791;&#20221;" TargetMode="External"/><Relationship Id="rId5" Type="http://schemas.openxmlformats.org/officeDocument/2006/relationships/hyperlink" Target="file:///&#31532;4&#31456;%20%20%20&#25968;&#25454;&#24211;&#31649;&#29702;.ppt#53. 4.4   &#24674;&#22797;&#25968;&#25454;&#24211;" TargetMode="External"/><Relationship Id="rId6" Type="http://schemas.openxmlformats.org/officeDocument/2006/relationships/hyperlink" Target="file:///&#31532;4&#31456;%20%20%20&#25968;&#25454;&#24211;&#31649;&#29702;.ppt#53. 4.4   &#24674;&#22797;&#25968;&#25454;&#24211;" TargetMode="External"/><Relationship Id="rId7" Type="http://schemas.openxmlformats.org/officeDocument/2006/relationships/hyperlink" Target="file:///&#31532;4&#31456;%20%20%20&#25968;&#25454;&#24211;&#31649;&#29702;.ppt#59. 4.5   &#25968;&#25454;&#24211;&#30340;&#32500;&#25252;" TargetMode="External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&#31532;5&#31456;%20%20%20%20&#25968;&#25454;&#24211;&#23545;&#35937;&#30340;&#25805;&#20316;.ppt#2. 5.1   &#25968;&#25454;&#31867;&#22411;" TargetMode="External"/><Relationship Id="rId3" Type="http://schemas.openxmlformats.org/officeDocument/2006/relationships/image" Target="../media/image4.png"/><Relationship Id="rId4" Type="http://schemas.openxmlformats.org/officeDocument/2006/relationships/hyperlink" Target="file:///&#31532;5&#31456;%20%20%20%20&#25968;&#25454;&#24211;&#23545;&#35937;&#30340;&#25805;&#20316;.ppt#5. 2. &#28014;&#28857;&#25968;&#25454;&#31867;&#22411;" TargetMode="External"/><Relationship Id="rId5" Type="http://schemas.openxmlformats.org/officeDocument/2006/relationships/image" Target="../media/image4.png"/><Relationship Id="rId6" Type="http://schemas.openxmlformats.org/officeDocument/2006/relationships/hyperlink" Target="file:///&#31532;5&#31456;%20%20%20%20&#25968;&#25454;&#24211;&#23545;&#35937;&#30340;&#25805;&#20316;.ppt#45. 5.3   &#35270;&#22270;&#25805;&#20316;" TargetMode="External"/><Relationship Id="rId7" Type="http://schemas.openxmlformats.org/officeDocument/2006/relationships/image" Target="../media/image4.png"/><Relationship Id="rId8" Type="http://schemas.openxmlformats.org/officeDocument/2006/relationships/hyperlink" Target="file:///&#31532;5&#31456;%20%20%20%20&#25968;&#25454;&#24211;&#23545;&#35937;&#30340;&#25805;&#20316;.ppt#82. 5.4   &#32034;&#24341;&#25805;&#20316;" TargetMode="External"/><Relationship Id="rId9" Type="http://schemas.openxmlformats.org/officeDocument/2006/relationships/image" Target="../media/image4.png"/><Relationship Id="rId10" Type="http://schemas.openxmlformats.org/officeDocument/2006/relationships/hyperlink" Target="file:///&#31532;5&#31456;%20%20%20%20&#25968;&#25454;&#24211;&#23545;&#35937;&#30340;&#25805;&#20316;.ppt#116. 5.5   &#23384;&#20648;&#36807;&#31243;" TargetMode="External"/><Relationship Id="rId11" Type="http://schemas.openxmlformats.org/officeDocument/2006/relationships/image" Target="../media/image4.png"/><Relationship Id="rId12" Type="http://schemas.openxmlformats.org/officeDocument/2006/relationships/hyperlink" Target="file:///&#31532;5&#31456;%20%20%20%20&#25968;&#25454;&#24211;&#23545;&#35937;&#30340;&#25805;&#20316;.ppt#145. 5.6   &#35302;&#21457;&#22120;" TargetMode="External"/><Relationship Id="rId13" Type="http://schemas.openxmlformats.org/officeDocument/2006/relationships/image" Target="../media/image4.png"/><Relationship Id="rId14" Type="http://schemas.openxmlformats.org/officeDocument/2006/relationships/hyperlink" Target="file:///&#31532;5&#31456;%20%20%20%20&#25968;&#25454;&#24211;&#23545;&#35937;&#30340;&#25805;&#20316;.ppt#164. 5.7    &#22270;    &#34920;" TargetMode="External"/><Relationship Id="rId1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31532;6&#31456;%20%20%20SQL%20Server&#26435;&#38480;&#31649;&#29702;.ppt#2. 6.1   SQL Server&#26435;&#38480;&#31649;&#29702;&#31574;&#30053;" TargetMode="External"/><Relationship Id="rId2" Type="http://schemas.openxmlformats.org/officeDocument/2006/relationships/hyperlink" Target="file:///&#31532;6&#31456;%20%20%20SQL%20Server&#26435;&#38480;&#31649;&#29702;.ppt#2. 6.1   SQL Server&#26435;&#38480;&#31649;&#29702;&#31574;&#30053;" TargetMode="External"/><Relationship Id="rId3" Type="http://schemas.openxmlformats.org/officeDocument/2006/relationships/hyperlink" Target="file:///&#31532;6&#31456;%20%20%20SQL%20Server&#26435;&#38480;&#31649;&#29702;.ppt#2. 6.1   SQL Server&#26435;&#38480;&#31649;&#29702;&#31574;&#30053;" TargetMode="External"/><Relationship Id="rId4" Type="http://schemas.openxmlformats.org/officeDocument/2006/relationships/hyperlink" Target="file:///&#31532;6&#31456;%20%20%20SQL%20Server&#26435;&#38480;&#31649;&#29702;.ppt#8. 6.2   &#29992;&#25143;&#26435;&#38480;&#31649;&#29702;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31532;7&#31456;%20%20%20SQL%20Server&#20195;&#29702;&#26381;&#21153;.ppt#3. 7.1   SQL Server&#20195;&#29702;&#26381;&#21153;&#37197;&#32622;" TargetMode="External"/><Relationship Id="rId2" Type="http://schemas.openxmlformats.org/officeDocument/2006/relationships/hyperlink" Target="file:///&#31532;7&#31456;%20%20%20SQL%20Server&#20195;&#29702;&#26381;&#21153;.ppt#3. 7.1   SQL Server&#20195;&#29702;&#26381;&#21153;&#37197;&#32622;" TargetMode="External"/><Relationship Id="rId3" Type="http://schemas.openxmlformats.org/officeDocument/2006/relationships/hyperlink" Target="file:///&#31532;7&#31456;%20%20%20SQL%20Server&#20195;&#29702;&#26381;&#21153;.ppt#3. 7.1   SQL Server&#20195;&#29702;&#26381;&#21153;&#37197;&#32622;" TargetMode="External"/><Relationship Id="rId4" Type="http://schemas.openxmlformats.org/officeDocument/2006/relationships/hyperlink" Target="file:///&#31532;7&#31456;%20%20%20SQL%20Server&#20195;&#29702;&#26381;&#21153;.ppt#9.  7.2   &#23450;&#20041;&#25805;&#20316;&#21592;" TargetMode="External"/><Relationship Id="rId5" Type="http://schemas.openxmlformats.org/officeDocument/2006/relationships/hyperlink" Target="file:///&#31532;7&#31456;%20%20%20SQL%20Server&#20195;&#29702;&#26381;&#21153;.ppt#11. 7.3   &#20316;&#19994;&#31649;&#29702;" TargetMode="External"/><Relationship Id="rId6" Type="http://schemas.openxmlformats.org/officeDocument/2006/relationships/hyperlink" Target="file:///&#31532;7&#31456;%20%20%20SQL%20Server&#20195;&#29702;&#26381;&#21153;.ppt#25. 7.4   &#35686;&#25253;&#31649;&#29702;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676520" y="1752480"/>
            <a:ext cx="6340320" cy="36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6002b"/>
                </a:solidFill>
                <a:latin typeface="Arial"/>
              </a:rPr>
              <a:t>SQL Server 2000</a:t>
            </a:r>
            <a:r>
              <a:rPr b="1" lang="zh-CN" sz="3600" spc="-1" strike="noStrike">
                <a:solidFill>
                  <a:srgbClr val="56002b"/>
                </a:solidFill>
                <a:latin typeface="Arial"/>
              </a:rPr>
              <a:t>数据库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9c004e"/>
                </a:solidFill>
                <a:uFillTx/>
                <a:latin typeface="Arial"/>
                <a:ea typeface="华文隶书"/>
                <a:hlinkClick r:id="rId1"/>
              </a:rPr>
              <a:t>简明教程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6002b"/>
                </a:solidFill>
                <a:latin typeface="Times New Roman"/>
              </a:rPr>
              <a:t>李存斌  主编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7620120" y="480060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下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第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8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章    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SQL Server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数据复制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133720" y="18288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ea typeface="Times New Roman"/>
                <a:hlinkClick r:id="rId1"/>
              </a:rPr>
              <a:t>8.1   复制概述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6002b"/>
                </a:solidFill>
                <a:latin typeface="Times New Roman"/>
                <a:ea typeface="Times New Roman"/>
              </a:rPr>
              <a:t>8.2   </a:t>
            </a:r>
            <a:r>
              <a:rPr b="1" lang="zh-CN" sz="2800" spc="-1" strike="noStrike">
                <a:solidFill>
                  <a:srgbClr val="56002b"/>
                </a:solidFill>
                <a:latin typeface="Times New Roman"/>
                <a:ea typeface="Times New Roman"/>
              </a:rPr>
              <a:t>配置服务器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6002b"/>
                </a:solidFill>
                <a:latin typeface="Times New Roman"/>
                <a:ea typeface="Times New Roman"/>
              </a:rPr>
              <a:t>8.3   </a:t>
            </a:r>
            <a:r>
              <a:rPr b="1" lang="zh-CN" sz="2800" spc="-1" strike="noStrike">
                <a:solidFill>
                  <a:srgbClr val="56002b"/>
                </a:solidFill>
                <a:latin typeface="Times New Roman"/>
                <a:ea typeface="Times New Roman"/>
              </a:rPr>
              <a:t>创建发布出版物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6002b"/>
                </a:solidFill>
                <a:latin typeface="Times New Roman"/>
                <a:ea typeface="Times New Roman"/>
              </a:rPr>
              <a:t>8.4   </a:t>
            </a:r>
            <a:r>
              <a:rPr b="1" lang="zh-CN" sz="2800" spc="-1" strike="noStrike">
                <a:solidFill>
                  <a:srgbClr val="56002b"/>
                </a:solidFill>
                <a:latin typeface="Times New Roman"/>
                <a:ea typeface="Times New Roman"/>
              </a:rPr>
              <a:t>订购出版物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6002b"/>
                </a:solidFill>
                <a:latin typeface="Times New Roman"/>
                <a:ea typeface="Times New Roman"/>
              </a:rPr>
              <a:t>8.5   </a:t>
            </a:r>
            <a:r>
              <a:rPr b="1" lang="zh-CN" sz="2800" spc="-1" strike="noStrike">
                <a:solidFill>
                  <a:srgbClr val="56002b"/>
                </a:solidFill>
                <a:latin typeface="Times New Roman"/>
              </a:rPr>
              <a:t>管理复制选项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6002b"/>
                </a:solidFill>
                <a:latin typeface="Times New Roman"/>
                <a:ea typeface="Times New Roman"/>
              </a:rPr>
              <a:t>8.6   </a:t>
            </a:r>
            <a:r>
              <a:rPr b="1" lang="zh-CN" sz="2800" spc="-1" strike="noStrike">
                <a:solidFill>
                  <a:srgbClr val="56002b"/>
                </a:solidFill>
                <a:latin typeface="Times New Roman"/>
              </a:rPr>
              <a:t>复制代理程序和监视器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7848720" y="3809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上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6934320" y="4952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下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5486400" y="56386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返回首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第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9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章   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SQL Server 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数据转换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80720" y="2438280"/>
            <a:ext cx="57150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56002b"/>
                </a:solidFill>
                <a:latin typeface="Times New Roman"/>
                <a:ea typeface="Times New Roman"/>
              </a:rPr>
              <a:t>9.1   </a:t>
            </a:r>
            <a:r>
              <a:rPr b="1" lang="zh-CN" sz="3000" spc="-1" strike="noStrike">
                <a:solidFill>
                  <a:srgbClr val="56002b"/>
                </a:solidFill>
                <a:latin typeface="Times New Roman"/>
              </a:rPr>
              <a:t>数据的导入和导出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56002b"/>
                </a:solidFill>
                <a:latin typeface="Times New Roman"/>
                <a:ea typeface="Times New Roman"/>
              </a:rPr>
              <a:t>9.2   </a:t>
            </a:r>
            <a:r>
              <a:rPr b="1" lang="zh-CN" sz="3000" spc="-1" strike="noStrike">
                <a:solidFill>
                  <a:srgbClr val="56002b"/>
                </a:solidFill>
                <a:latin typeface="Times New Roman"/>
              </a:rPr>
              <a:t>使用</a:t>
            </a:r>
            <a:r>
              <a:rPr b="1" lang="zh-CN" sz="3000" spc="-1" strike="noStrike">
                <a:solidFill>
                  <a:srgbClr val="56002b"/>
                </a:solidFill>
                <a:latin typeface="Times New Roman"/>
                <a:ea typeface="Times New Roman"/>
              </a:rPr>
              <a:t>DTS</a:t>
            </a:r>
            <a:r>
              <a:rPr b="1" lang="zh-CN" sz="3000" spc="-1" strike="noStrike">
                <a:solidFill>
                  <a:srgbClr val="56002b"/>
                </a:solidFill>
                <a:latin typeface="Times New Roman"/>
              </a:rPr>
              <a:t>设计器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7848720" y="3809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上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6934320" y="4952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下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5486400" y="56386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返回首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6934320" y="4952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上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5486400" y="56386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返回首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9" name="0440" descr=""/>
          <p:cNvPicPr/>
          <p:nvPr/>
        </p:nvPicPr>
        <p:blipFill>
          <a:blip r:embed="rId1"/>
          <a:stretch/>
        </p:blipFill>
        <p:spPr>
          <a:xfrm>
            <a:off x="3048120" y="2362320"/>
            <a:ext cx="4038480" cy="2593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914400" y="91440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Monotype Corsiva"/>
              </a:rPr>
              <a:t>Thank you very much!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2590920"/>
            <a:ext cx="2225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0011"/>
                </a:solidFill>
                <a:latin typeface="Times New Roman"/>
                <a:ea typeface="华文新魏"/>
              </a:rPr>
              <a:t>欢迎您使用</a:t>
            </a:r>
            <a:r>
              <a:rPr b="1" lang="zh-CN" sz="2800" spc="-1" strike="noStrike">
                <a:solidFill>
                  <a:srgbClr val="220011"/>
                </a:solidFill>
                <a:latin typeface="隶书"/>
                <a:ea typeface="隶书"/>
              </a:rPr>
              <a:t>SQL Server 2000</a:t>
            </a:r>
            <a:r>
              <a:rPr b="1" lang="zh-CN" sz="2800" spc="-1" strike="noStrike">
                <a:solidFill>
                  <a:srgbClr val="220011"/>
                </a:solidFill>
                <a:latin typeface="隶书"/>
                <a:ea typeface="隶书"/>
              </a:rPr>
              <a:t>数据库简明教程演示文稿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华文新魏"/>
              </a:rPr>
              <a:t>前言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6964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20417"/>
                </a:solidFill>
                <a:latin typeface="华文新魏"/>
                <a:ea typeface="华文新魏"/>
              </a:rPr>
              <a:t>一、本教材电子教案（演示文稿）采用 </a:t>
            </a:r>
            <a:r>
              <a:rPr b="1" lang="zh-CN" sz="2400" spc="-1" strike="noStrike">
                <a:solidFill>
                  <a:srgbClr val="520417"/>
                </a:solidFill>
                <a:latin typeface="华文新魏"/>
                <a:ea typeface="华文新魏"/>
              </a:rPr>
              <a:t>PowerPoint 2000</a:t>
            </a:r>
            <a:r>
              <a:rPr b="1" lang="zh-CN" sz="2400" spc="-1" strike="noStrike">
                <a:solidFill>
                  <a:srgbClr val="520417"/>
                </a:solidFill>
                <a:latin typeface="华文新魏"/>
                <a:ea typeface="华文新魏"/>
              </a:rPr>
              <a:t>制作，用户可根据教学需求随意修改，使用非常方便。</a:t>
            </a:r>
            <a:endParaRPr b="1" lang="en-US" sz="24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3124080"/>
            <a:ext cx="7848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2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20417"/>
                </a:solidFill>
                <a:latin typeface="华文新魏"/>
                <a:ea typeface="华文新魏"/>
              </a:rPr>
              <a:t>二、本电子教案以鲜艳的色彩，明亮的格调为主旋律，加上不同风格的动画，新颖别致的界面，给人一种朝气蓬勃、耳目一新的感觉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648320"/>
            <a:ext cx="7086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2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20417"/>
                </a:solidFill>
                <a:latin typeface="华文新魏"/>
                <a:ea typeface="华文新魏"/>
              </a:rPr>
              <a:t>三、本电子教案由华北电力大学（北京）工商管理学院教授李存斌指导，李武教师制作完成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previousslide"/>
          </p:cNvPr>
          <p:cNvSpPr/>
          <p:nvPr/>
        </p:nvSpPr>
        <p:spPr>
          <a:xfrm>
            <a:off x="7543800" y="4876920"/>
            <a:ext cx="1219320" cy="121896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上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5715000" y="56386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下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第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Arial"/>
              </a:rPr>
              <a:t>1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章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Arial"/>
              </a:rPr>
              <a:t>   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Arial"/>
              </a:rPr>
              <a:t>SQL Server 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关系数据库简介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52480" y="2196720"/>
            <a:ext cx="6477120" cy="33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1"/>
              </a:rPr>
              <a:t>1.1   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2"/>
              </a:rPr>
              <a:t>SQL Server 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3"/>
              </a:rPr>
              <a:t>特点 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4"/>
              </a:rPr>
              <a:t>1.2   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5"/>
              </a:rPr>
              <a:t>SQL Server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6"/>
              </a:rPr>
              <a:t>的安装和配置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7"/>
              </a:rPr>
              <a:t>1.3   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8"/>
              </a:rPr>
              <a:t>SQL Server 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9"/>
              </a:rPr>
              <a:t>工具和实用程序 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previousslide"/>
          </p:cNvPr>
          <p:cNvSpPr/>
          <p:nvPr/>
        </p:nvSpPr>
        <p:spPr>
          <a:xfrm>
            <a:off x="7848720" y="3809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上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6934320" y="4952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下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5486400" y="56386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返回首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章 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Transact-SQL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语言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1"/>
              </a:rPr>
              <a:t>2.1  数据定义语言（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2"/>
              </a:rPr>
              <a:t>DDL）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3"/>
              </a:rPr>
              <a:t>2.2  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4"/>
              </a:rPr>
              <a:t>数据操纵语言（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5"/>
              </a:rPr>
              <a:t>DML）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6"/>
              </a:rPr>
              <a:t>2.3  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7"/>
              </a:rPr>
              <a:t>数据控制语言（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8"/>
              </a:rPr>
              <a:t>DCL）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9"/>
              </a:rPr>
              <a:t>2.4  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10"/>
              </a:rPr>
              <a:t>系统存储过程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11"/>
              </a:rPr>
              <a:t>2.5  其它语言元素 </a:t>
            </a:r>
            <a:br>
              <a:rPr sz="2800"/>
            </a:b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previousslide"/>
          </p:cNvPr>
          <p:cNvSpPr/>
          <p:nvPr/>
        </p:nvSpPr>
        <p:spPr>
          <a:xfrm>
            <a:off x="7848720" y="3809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上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6934320" y="4952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下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5486400" y="56386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返回首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1143000"/>
            <a:ext cx="73152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第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章   服务器管理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89280" y="2249280"/>
            <a:ext cx="55339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ea typeface="Times New Roman"/>
                <a:hlinkClick r:id="rId1"/>
              </a:rPr>
              <a:t>3.1   </a:t>
            </a: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ea typeface="Times New Roman"/>
                <a:hlinkClick r:id="rId2"/>
              </a:rPr>
              <a:t>创建服务器组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hlinkClick r:id="rId3"/>
              </a:rPr>
              <a:t>3.2   服务器注册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ea typeface="Times New Roman"/>
                <a:hlinkClick r:id="rId4"/>
              </a:rPr>
              <a:t>3.3   </a:t>
            </a: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ea typeface="Times New Roman"/>
                <a:hlinkClick r:id="rId5"/>
              </a:rPr>
              <a:t>服务器启动、暂停和停止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ea typeface="Times New Roman"/>
                <a:hlinkClick r:id="rId6"/>
              </a:rPr>
              <a:t>3.4   </a:t>
            </a: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ea typeface="Times New Roman"/>
                <a:hlinkClick r:id="rId7"/>
              </a:rPr>
              <a:t>服务器连接与断开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ea typeface="Times New Roman"/>
                <a:hlinkClick r:id="rId8"/>
              </a:rPr>
              <a:t>3.5   </a:t>
            </a: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ea typeface="Times New Roman"/>
                <a:hlinkClick r:id="rId9"/>
              </a:rPr>
              <a:t>服务器配置选项设置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7848720" y="3809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上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6934320" y="4952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下一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5486400" y="56386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返回首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1218960"/>
            <a:ext cx="74674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第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4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章   数据库管理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6145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1"/>
              </a:rPr>
              <a:t>4.1   数据库的存储结构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ea typeface="Times New Roman"/>
                <a:hlinkClick r:id="rId2"/>
              </a:rPr>
              <a:t>4.2   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ea typeface="Times New Roman"/>
                <a:hlinkClick r:id="rId3"/>
              </a:rPr>
              <a:t>创建、修改和删除数据库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4"/>
              </a:rPr>
              <a:t>4.3   数据库备份 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ea typeface="Times New Roman"/>
                <a:hlinkClick r:id="rId5"/>
              </a:rPr>
              <a:t>4.4   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ea typeface="Times New Roman"/>
                <a:hlinkClick r:id="rId6"/>
              </a:rPr>
              <a:t>恢复数据库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7"/>
              </a:rPr>
              <a:t>4.5   数据库的维护 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7848720" y="3809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上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6934320" y="4952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下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5486400" y="56386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返回首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第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5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章    数据库对象的操作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19160" y="1752480"/>
            <a:ext cx="510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hlinkClick r:id="rId2"/>
              </a:rPr>
              <a:t>5.1   数据类型 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hlinkClick r:id="rId4"/>
              </a:rPr>
              <a:t>5.2   表操作 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hlinkClick r:id="rId6"/>
              </a:rPr>
              <a:t>5.3   视图操作 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hlinkClick r:id="rId8"/>
              </a:rPr>
              <a:t>5.4   索引操作 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>
              <a:spcBef>
                <a:spcPts val="751"/>
              </a:spcBef>
              <a:buSzPct val="10289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hlinkClick r:id="rId10"/>
              </a:rPr>
              <a:t>5.5   存储过程 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>
              <a:spcBef>
                <a:spcPts val="751"/>
              </a:spcBef>
              <a:buSzPct val="10289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hlinkClick r:id="rId12"/>
              </a:rPr>
              <a:t>5.6   触发器 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>
              <a:spcBef>
                <a:spcPts val="751"/>
              </a:spcBef>
              <a:buSzPct val="10289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hlinkClick r:id="rId14"/>
              </a:rPr>
              <a:t>5.7    图    表 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7848720" y="3809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上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6934320" y="4952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下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5486400" y="56386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返回首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隶书"/>
              </a:rPr>
              <a:t>第</a:t>
            </a:r>
            <a:r>
              <a:rPr b="1" lang="zh-CN" sz="3200" spc="-1" strike="noStrike">
                <a:solidFill>
                  <a:srgbClr val="ffffcc"/>
                </a:solidFill>
                <a:latin typeface="隶书"/>
              </a:rPr>
              <a:t>6</a:t>
            </a:r>
            <a:r>
              <a:rPr b="1" lang="zh-CN" sz="3200" spc="-1" strike="noStrike">
                <a:solidFill>
                  <a:srgbClr val="ffffcc"/>
                </a:solidFill>
                <a:latin typeface="隶书"/>
              </a:rPr>
              <a:t>章   </a:t>
            </a:r>
            <a:r>
              <a:rPr b="1" lang="zh-CN" sz="3200" spc="-1" strike="noStrike">
                <a:solidFill>
                  <a:srgbClr val="ffffcc"/>
                </a:solidFill>
                <a:latin typeface="隶书"/>
              </a:rPr>
              <a:t>SQL Server</a:t>
            </a:r>
            <a:r>
              <a:rPr b="1" lang="zh-CN" sz="3200" spc="-1" strike="noStrike">
                <a:solidFill>
                  <a:srgbClr val="ffffcc"/>
                </a:solidFill>
                <a:latin typeface="隶书"/>
              </a:rPr>
              <a:t>权限管理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81080" y="2286000"/>
            <a:ext cx="6019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隶书"/>
                <a:hlinkClick r:id="rId1"/>
              </a:rPr>
              <a:t>6.1   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隶书"/>
                <a:hlinkClick r:id="rId2"/>
              </a:rPr>
              <a:t>SQL Server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隶书"/>
                <a:hlinkClick r:id="rId3"/>
              </a:rPr>
              <a:t>权限管理策略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隶书"/>
                <a:hlinkClick r:id="rId4"/>
              </a:rPr>
              <a:t>6.2   用户权限管理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7848720" y="3809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上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6934320" y="4952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下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5486400" y="56386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返回首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第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7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章   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SQL Server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代理服务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057040" y="2133360"/>
            <a:ext cx="5715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隶书"/>
                <a:hlinkClick r:id="rId1"/>
              </a:rPr>
              <a:t>7.1   </a:t>
            </a:r>
            <a:r>
              <a:rPr b="1" lang="zh-CN" sz="3000" spc="-1" strike="noStrike" u="sng">
                <a:solidFill>
                  <a:srgbClr val="9c004e"/>
                </a:solidFill>
                <a:uFillTx/>
                <a:latin typeface="隶书"/>
                <a:hlinkClick r:id="rId2"/>
              </a:rPr>
              <a:t>SQL Server</a:t>
            </a:r>
            <a:r>
              <a:rPr b="1" lang="zh-CN" sz="3000" spc="-1" strike="noStrike" u="sng">
                <a:solidFill>
                  <a:srgbClr val="9c004e"/>
                </a:solidFill>
                <a:uFillTx/>
                <a:latin typeface="隶书"/>
                <a:hlinkClick r:id="rId3"/>
              </a:rPr>
              <a:t>代理服务配置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隶书"/>
                <a:hlinkClick r:id="rId4"/>
              </a:rPr>
              <a:t>7.2   定义操作员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隶书"/>
                <a:hlinkClick r:id="rId5"/>
              </a:rPr>
              <a:t>7.3   作业管理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隶书"/>
                <a:hlinkClick r:id="rId6"/>
              </a:rPr>
              <a:t>7.4   警报管理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7848720" y="3809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上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6934320" y="4952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下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5486400" y="56386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返回首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4T13:14:35Z</dcterms:created>
  <dc:creator>haier</dc:creator>
  <dc:description/>
  <dc:language>en-US</dc:language>
  <cp:lastModifiedBy>lcb</cp:lastModifiedBy>
  <dcterms:modified xsi:type="dcterms:W3CDTF">2001-08-19T07:23:25Z</dcterms:modified>
  <cp:revision>30</cp:revision>
  <dc:subject/>
  <dc:title>PowerPoint 演示文稿</dc:title>
</cp:coreProperties>
</file>